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A57-BB53-46CE-A482-D75539C9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C2E-818F-43F3-A2B4-7D372F51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C7C-1A96-4A14-808F-F192C61D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421-98EC-4F26-B37B-366BB2BA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CE2D-9A89-49A2-8D5E-B75ABEE4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684E-29C8-4E09-92D1-9BADE0D7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AA29-945D-41A3-B86C-36A80077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C9C2-7497-4ECA-A2D3-6AA1C276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B974-7339-41CD-B285-B2391DC1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5D5A-3115-415E-82CC-85BA2903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DFD8-08B6-4534-962E-A3C84955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216-5DDB-43FE-8E65-C4F5FB65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813A-6A1B-457C-B165-952CE425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D258-9C36-4726-A90D-0CF34B4B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B7C8-346B-4907-8721-BDEF5610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A9F9-5F38-4910-8889-E363968E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F073-B785-45B5-B42A-8B1A32BF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E90-22EE-459F-8A9D-301307A4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513-8FF1-4D04-A49A-C44FA144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BD7-992D-4F69-810A-D5D4D843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647A-02E0-4ABD-8317-E2EBB26B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E99-9358-47F1-8DDC-8A371819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7A01-095F-47AF-B973-A7677E56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E8B-AA57-48A6-BFA5-49A3662F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8A65-A086-40BF-B9B6-7303CC679C5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282F-74EB-4127-AEF6-30F9F33F58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atholic Piety, Leisure, and Recre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ler Kehoe &amp; Jake Berly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u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ducated El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r culture, such as festivals, among common people increa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lite had previously shared excitement for popular culture but now saw its vulgarity, sin and disor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eparation in the educated upper class and the common people played a role in future class confli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tholic Pie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holics- More baroque 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stants- Less emotional 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gion still practiced by most 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95% of people still practic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holic religion brought unity through processions and holiday festiv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oliday atmosphere sometimes reigned on longer processions, with drinking and dancing and couples disappearing into the woods.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Holiday Atmosphe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oliday atmosphere sometimes reigned on longer processions, with drinking and dancing and couples disappearing into the woods.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to draw the lin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s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ests who want to purify Cathlolic Church who discarded paganistic holiday views. (basically get rid of religious holiday celebration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lergy who thought the piety of the Catholic Church should be more relaxed and let 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Result!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iests of the Catholic Church realized that there was no compromise with the clergy and varied by terri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seph I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31431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isure and Recre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ni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religious celebration seen in festivals and processions in the Catholic areas around Mediterranean Euro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nival came before Lent on a few days in February or M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a wild release of frustration through drinking masquerading and dancing that could be enjoyed before the sacrifices of L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veryday Leis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socialized in groups due to the culture being more oral than writ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ies sat around fireplaces and told stories, sang, danced,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 drank in public places; most towns had a taver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 gathered in someone’s house and talked, sewed, and discussed possible suitors for the younger wo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musement in Cities/Tow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in Urban Fairs which offered food, circuses, optical illusions and open air performanc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tator Sports such as horse races, boxing matches, and bullfigh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racted all social cla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ercialization of amusement in the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- events paid f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ood Spor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llba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bull staked to a chain in a courtyard at an inn a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acked by dogs for clients amus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ckfigh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ters trained by owners and armed with spur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placed in a small ring and fought to the dea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jured or dead animals were butchered and sold as m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32:43Z</dcterms:created>
  <dc:creator>MNS</dc:creator>
  <dc:description/>
  <dc:language>en-US</dc:language>
  <cp:lastModifiedBy>MNS</cp:lastModifiedBy>
  <dcterms:modified xsi:type="dcterms:W3CDTF">2009-12-07T15:06:57Z</dcterms:modified>
  <cp:revision>6</cp:revision>
  <dc:subject/>
  <dc:title>Catholic Piety, Leisure, and Recreation</dc:title>
</cp:coreProperties>
</file>